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E74E-E5F5-4BA0-A33B-030FDDD5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4C06-FAF6-4EAD-A614-B06C46D4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FB0F-A082-4941-BEA4-3DB20AA7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858B-9B2F-470B-AF3D-587D8533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CC5C-4496-474B-ACDC-577AF516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73D8-5F8C-4BDE-BC43-B964D124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B08A-B6C4-4EF8-BB75-05B4B748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2831-A285-4B02-86FD-6F096050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294A-A275-4470-A94F-C463E5D5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5565-7F96-4C0A-9914-2D7E76B9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08FF-1F1A-4A54-8911-D5304A3D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A0D6-A126-4382-BD4A-C3A7BA5C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7C84-2555-4056-8261-3B64539E9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al 7-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ior Crime Scene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393120" y="208080"/>
            <a:ext cx="8316720" cy="6102000"/>
            <a:chOff x="393120" y="208080"/>
            <a:chExt cx="8316720" cy="6102000"/>
          </a:xfrm>
        </p:grpSpPr>
        <p:pic>
          <p:nvPicPr>
            <p:cNvPr id="143" name="scanoutside" descr=""/>
            <p:cNvPicPr/>
            <p:nvPr/>
          </p:nvPicPr>
          <p:blipFill>
            <a:blip r:embed="rId1"/>
            <a:srcRect l="0" t="1176" r="0" b="0"/>
            <a:stretch/>
          </p:blipFill>
          <p:spPr>
            <a:xfrm>
              <a:off x="685800" y="208080"/>
              <a:ext cx="7772400" cy="55832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4" name=""/>
            <p:cNvGraphicFramePr/>
            <p:nvPr/>
          </p:nvGraphicFramePr>
          <p:xfrm>
            <a:off x="8037360" y="853920"/>
            <a:ext cx="516240" cy="497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37360" y="853920"/>
                      <a:ext cx="516240" cy="4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6" name=""/>
            <p:cNvSpPr/>
            <p:nvPr/>
          </p:nvSpPr>
          <p:spPr>
            <a:xfrm>
              <a:off x="8115120" y="533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1680" y="4724280"/>
              <a:ext cx="938160" cy="15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” = 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2” = 2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4” = 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8” = 6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16” = 3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59400" y="28195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13400" y="274320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7960" y="25909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8200" y="243828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37120" y="2895480"/>
              <a:ext cx="289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51320" y="3200400"/>
              <a:ext cx="279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096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388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2880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010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47080" y="3962520"/>
              <a:ext cx="901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ain co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35160" y="2971800"/>
              <a:ext cx="1131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ter Fou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90200" y="163044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37320" y="167652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3120" y="536400"/>
              <a:ext cx="14364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 - Bag/c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 - Uzi 9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98680" y="4191120"/>
              <a:ext cx="1069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olf Cart 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02120" y="5562720"/>
              <a:ext cx="31892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iangulation on a Base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48120" y="22096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904760" y="2209680"/>
              <a:ext cx="114300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62320" y="205740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477120" y="2057040"/>
              <a:ext cx="838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77120" y="2209680"/>
              <a:ext cx="16002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31400" y="19350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69480" y="19350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83880" y="19350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98280" y="19350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72920" y="19350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P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971800" y="2209320"/>
              <a:ext cx="763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971800" y="2209320"/>
              <a:ext cx="8380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3047760" y="228564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200400" y="2209320"/>
              <a:ext cx="6094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3047760" y="22096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733920" y="2209680"/>
              <a:ext cx="75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3809520" y="2209320"/>
              <a:ext cx="175284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4800240" y="2209320"/>
              <a:ext cx="7621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4800600" y="2209680"/>
              <a:ext cx="8380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638680" y="2209680"/>
              <a:ext cx="763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715000" y="220932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715000" y="2209320"/>
              <a:ext cx="7621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5714640" y="2209680"/>
              <a:ext cx="1522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5867280" y="2209680"/>
              <a:ext cx="6098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14400" y="259092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54120" y="220968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’9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43000" y="303228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’9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47920" y="274320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49560" y="24382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87440" y="333684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39720" y="190512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67240" y="287964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25720" y="259092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5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54320" y="23464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35560" y="228600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16440" y="251460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’3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49960" y="25146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67440" y="228600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34120" y="28036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7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3240" y="188928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’9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05120" y="242244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’3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33920" y="303228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’6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  <p:sndAc>
      <p:stSnd>
        <p:snd r:embed="rId4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al 7-2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e the scene in Slides # 1 or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 the instructors guidelines map this scene using  exterior mapping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ing upon the technique and landmarks you use, your response may or may not exactly match the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 concentrate on using the appropriate rules, not using inappropriate landmarks and taking all necessary measu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#1 - Practical Sce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ar Coordin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ior Crime Scene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304200" y="208080"/>
            <a:ext cx="8472240" cy="6426000"/>
            <a:chOff x="304200" y="208080"/>
            <a:chExt cx="8472240" cy="6426000"/>
          </a:xfrm>
        </p:grpSpPr>
        <p:pic>
          <p:nvPicPr>
            <p:cNvPr id="48" name="scanoutside" descr=""/>
            <p:cNvPicPr/>
            <p:nvPr/>
          </p:nvPicPr>
          <p:blipFill>
            <a:blip r:embed="rId1"/>
            <a:srcRect l="0" t="1176" r="0" b="0"/>
            <a:stretch/>
          </p:blipFill>
          <p:spPr>
            <a:xfrm>
              <a:off x="685800" y="208080"/>
              <a:ext cx="7772400" cy="558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581280" y="5410080"/>
              <a:ext cx="381240" cy="381240"/>
            </a:xfrm>
            <a:prstGeom prst="flowChartSummingJunction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64320" y="5486400"/>
              <a:ext cx="1380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ment Pos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1" name=""/>
            <p:cNvGraphicFramePr/>
            <p:nvPr/>
          </p:nvGraphicFramePr>
          <p:xfrm>
            <a:off x="8037360" y="853920"/>
            <a:ext cx="516240" cy="497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37360" y="853920"/>
                      <a:ext cx="516240" cy="4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8115120" y="533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38280" y="5048280"/>
              <a:ext cx="938160" cy="15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” = 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2” = 2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4” = 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8” = 6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16” = 3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59400" y="28195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13400" y="274320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17960" y="25909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88200" y="243828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37120" y="2895480"/>
              <a:ext cx="289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251320" y="3200400"/>
              <a:ext cx="279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96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388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2880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010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9760" y="4038480"/>
              <a:ext cx="901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ain co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535160" y="2971800"/>
              <a:ext cx="1131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ter Fou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90200" y="163044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7320" y="167652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4200" y="536400"/>
              <a:ext cx="14364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 - Bag/c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 - Uzi 9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98680" y="4191120"/>
              <a:ext cx="1069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olf Cart 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70400" y="6232680"/>
              <a:ext cx="21711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lar Coordina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  <p:sndAc>
      <p:stSnd>
        <p:snd r:embed="rId4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#2 - Solution Example Polar Coordin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ior Crime Scene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304200" y="208080"/>
            <a:ext cx="8481600" cy="6426000"/>
            <a:chOff x="304200" y="208080"/>
            <a:chExt cx="8481600" cy="6426000"/>
          </a:xfrm>
        </p:grpSpPr>
        <p:pic>
          <p:nvPicPr>
            <p:cNvPr id="75" name="scanoutside" descr=""/>
            <p:cNvPicPr/>
            <p:nvPr/>
          </p:nvPicPr>
          <p:blipFill>
            <a:blip r:embed="rId1"/>
            <a:srcRect l="0" t="1176" r="0" b="0"/>
            <a:stretch/>
          </p:blipFill>
          <p:spPr>
            <a:xfrm>
              <a:off x="685800" y="208080"/>
              <a:ext cx="7772400" cy="558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81280" y="5334120"/>
              <a:ext cx="381240" cy="380880"/>
            </a:xfrm>
            <a:prstGeom prst="flowChartSummingJunction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64320" y="5486400"/>
              <a:ext cx="1380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ment Pos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8" name=""/>
            <p:cNvGraphicFramePr/>
            <p:nvPr/>
          </p:nvGraphicFramePr>
          <p:xfrm>
            <a:off x="8037360" y="853920"/>
            <a:ext cx="516240" cy="497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37360" y="853920"/>
                      <a:ext cx="516240" cy="4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" name=""/>
            <p:cNvSpPr/>
            <p:nvPr/>
          </p:nvSpPr>
          <p:spPr>
            <a:xfrm>
              <a:off x="8115120" y="533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38280" y="5048280"/>
              <a:ext cx="938160" cy="15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” = 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2” = 2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4” = 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8” = 6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16” = 3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200" y="536400"/>
              <a:ext cx="14364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 - Bag/c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 - Uzi 9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59400" y="28195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13400" y="274320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17960" y="25909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88200" y="243828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37120" y="2895480"/>
              <a:ext cx="289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51320" y="3200400"/>
              <a:ext cx="279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096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388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880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010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9760" y="4038480"/>
              <a:ext cx="901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ain co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2057040" y="4266720"/>
              <a:ext cx="16765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2971440" y="3124080"/>
              <a:ext cx="76212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276720" y="3047760"/>
              <a:ext cx="45720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733920" y="281952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733920" y="3581280"/>
              <a:ext cx="182880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733920" y="3276720"/>
              <a:ext cx="205740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3733920" y="2895120"/>
              <a:ext cx="1904760" cy="26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733920" y="3352320"/>
              <a:ext cx="426708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49000" y="3276720"/>
              <a:ext cx="83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41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1’3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14120" y="2392200"/>
              <a:ext cx="83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47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1’6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28520" y="3078000"/>
              <a:ext cx="83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59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2’3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09600" y="2590920"/>
              <a:ext cx="76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4’3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73040" y="3078000"/>
              <a:ext cx="76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3’6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70800" y="3382920"/>
              <a:ext cx="61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1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12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44640" y="3200400"/>
              <a:ext cx="64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0’10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7320" y="167652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90200" y="163044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54280" y="4419720"/>
              <a:ext cx="42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98680" y="4191120"/>
              <a:ext cx="1069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olf Cart 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35160" y="2971800"/>
              <a:ext cx="1131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ter Fou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70400" y="6232680"/>
              <a:ext cx="21711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lar Coordina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  <p:sndAc>
      <p:stSnd>
        <p:snd r:embed="rId4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#3 - Practical Scene Triangulation on a Bas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ior Crime Scene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04200" y="208080"/>
            <a:ext cx="8472240" cy="6426000"/>
            <a:chOff x="304200" y="208080"/>
            <a:chExt cx="8472240" cy="6426000"/>
          </a:xfrm>
        </p:grpSpPr>
        <p:pic>
          <p:nvPicPr>
            <p:cNvPr id="118" name="scanoutside" descr=""/>
            <p:cNvPicPr/>
            <p:nvPr/>
          </p:nvPicPr>
          <p:blipFill>
            <a:blip r:embed="rId1"/>
            <a:srcRect l="0" t="1176" r="0" b="0"/>
            <a:stretch/>
          </p:blipFill>
          <p:spPr>
            <a:xfrm>
              <a:off x="685800" y="208080"/>
              <a:ext cx="7772400" cy="55832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19" name=""/>
            <p:cNvGraphicFramePr/>
            <p:nvPr/>
          </p:nvGraphicFramePr>
          <p:xfrm>
            <a:off x="8037360" y="853920"/>
            <a:ext cx="516240" cy="497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037360" y="853920"/>
                      <a:ext cx="516240" cy="49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>
              <a:off x="8115120" y="533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38280" y="5048280"/>
              <a:ext cx="938160" cy="15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” = 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2” = 2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4” = 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8” = 6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16” = 3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59400" y="28195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13400" y="274320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17960" y="2590920"/>
              <a:ext cx="299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88200" y="2438280"/>
              <a:ext cx="3088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37120" y="2895480"/>
              <a:ext cx="289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51320" y="3200400"/>
              <a:ext cx="279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096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38880" y="19051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2880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010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7080" y="3962520"/>
              <a:ext cx="9014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ain co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35160" y="2971800"/>
              <a:ext cx="1131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ter Fou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90200" y="163044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37320" y="167652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4200" y="536400"/>
              <a:ext cx="14364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 - 40 cal.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 - Bag/cr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 - 9mm ca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 - Uzi 9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98680" y="4191120"/>
              <a:ext cx="1069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olf Cart 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02120" y="5562720"/>
              <a:ext cx="31892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iangulation on a Base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  <p:sndAc>
      <p:stSnd>
        <p:snd r:embed="rId4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#2 - Solution Example Triangulation on a Bas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ior Crime Scene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14:38:02Z</dcterms:created>
  <dc:creator>Ross M. Gardner</dc:creator>
  <dc:description/>
  <dc:language>en-US</dc:language>
  <cp:lastModifiedBy>amcleary</cp:lastModifiedBy>
  <cp:lastPrinted>2003-12-11T16:22:17Z</cp:lastPrinted>
  <dcterms:modified xsi:type="dcterms:W3CDTF">2004-07-28T16:40:54Z</dcterms:modified>
  <cp:revision>11</cp:revision>
  <dc:subject/>
  <dc:title>No Slide Title</dc:title>
</cp:coreProperties>
</file>